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BAF00-E7BA-4CB9-9698-EE5C81B3EF7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468C8-612D-4F45-B3DF-C00E25849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C83BB-6A8D-49CC-BB4E-55DDB901F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C116A-564A-4E61-91E7-DBFB3860F08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706D5-F4A3-4366-854C-945499374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C31A4-EBE9-4596-BE73-405C979D0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A6A07-769A-4A64-A5EE-00563246E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928A6-D896-4E9C-8120-4E0AFBF63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432DA-063E-4C71-92FC-7267BAFE5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E8856-8D79-49F5-BCDF-4B05976C6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D2863-B2EB-4D4F-9C8B-FB2683AA3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92A22-0858-471E-9A95-2F2D6E868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CCA5C-A14A-41BE-AA87-AA590DFF018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000" y="2349360"/>
            <a:ext cx="8280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麻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常用局部麻醉药：普鲁卡因、利多卡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常用方法：表面麻醉、局部浸润麻醉、区域阻滞、神经及神经丛阻滞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：局麻药毒性反应、过敏反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椎管内麻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蛛网膜下隙阻滞：简称腰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硬脊膜外腔阻滞：全脊髓麻醉是硬膜外麻醉最危险的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麻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分为吸入麻醉和静脉麻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：包括呼吸道梗阻、通气不足、低氧血症、低血压或高血压、心律失常、高热、抽搐和惊厥、苏醒延迟或不醒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5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在全身麻醉下行右肺上叶肺癌根治术，术中顺利，安返病房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此时应采取何种体位？②为何采取这种体位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恐惧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焦虑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对手术室环境陌生、缺乏对手术和麻醉的了解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局麻药毒副作用，高血压，低血压，心律失常，心搏骤停，呼吸道梗阻，呼吸抑制，头痛，恶性、呕吐，尿潴留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有受伤的危险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患者麻醉后未完全清醒或感觉未完全恢复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纠正或改善病理生理状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前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前给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使患者在麻醉前情绪稳定，充分配合麻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提高患者的痛阈，缓解原发疾病或麻醉前有创操作引起的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抑制呼吸道腺体的分泌功能，减少唾液分泌，以防误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除因手术或麻醉产生的不良反射，特别是迷走神经反射，以维持血流动力学的稳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期间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麻醉并发症的预防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毒性反应：限量用药、麻醉前用药、缓慢注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过敏反应：预防过敏反应的关键是麻醉前询问药物过敏史和进行药物过敏试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期间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蛛网膜下隙阻滞并发症的预防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低血压、心率减慢：应加快输液速度，增加血容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抑制：谨慎用药，吸氧，维持循环，必要时行气管插管、人工呼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恶心、呕吐：吸氧、升压、暂停手术以减少对迷走神经的刺激，必要时甲氧氯普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m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静脉注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期间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硬膜外麻醉并发症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脊髓麻醉：维持呼吸及维持循环功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导管折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穿刺针或导管误入血管：注药前必须回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硬膜外间隙血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复述局部麻醉、蛛网膜下隙阻滞、硬脊膜外阻滞、全身麻醉的概念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列举麻醉前常用药物及其目的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复述各种麻醉主要并发症的预防和处理措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比较不同麻醉方式的特点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阐述局部麻醉、蛛网膜下隙阻滞、硬脊膜外阻滞、全身麻醉主要并发症的原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评估麻醉患者并为其制订护理计划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期间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麻醉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4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反流与误吸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4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呼吸道梗阻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4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通气量不足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4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低氧血症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4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高血压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4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低血压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4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心律失常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4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高热、抽搐和惊厥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麻后护理：一般无须特殊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椎管内麻醉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吸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：腰麻后去枕平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h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后并发症观察和护理：头痛、尿潴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麻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维持循环功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维持正常体温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防止意外损伤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明确麻醉苏醒情况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麻醉前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医师一般在麻醉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访视患者，了解患者情况，解答患者问题，缓解患者焦虑、恐惧的心理，具体准备内容包括患者准备；麻醉设备、用品及药物的准备：麻醉设备及用品准备、局麻药过敏试验、麻醉前用药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局部麻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方法  常用药物包括酯类和酰胺类局麻药，麻醉方法包括表面麻醉、局部浸润麻醉、区域阻滞和神经阻滞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前应做好心理和生理准备。麻醉期间注意对局麻药毒性反应和过敏反应等并发症的观察和护理。麻醉后一般无需特殊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椎管内麻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方法  包括蛛网膜下隙阻滞（简称腰麻）和硬膜外腔阻滞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前做好心理和生理准备。麻醉期间注意对血压下降、心率缓慢、呼吸抑制、恶心、呕吐、全脊髓麻醉、局麻药毒性反应等并发症的观察和护理。麻醉后注意病情观察，吸氧，蛛网膜下腔阻滞后去枕平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，硬膜外阻滞后垫枕平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。注意对头痛、尿潴留、硬膜外血肿等并发症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全身麻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类型 按给药途径的不同，可分为吸入麻醉和静脉麻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前注意观察患者的心理变化，麻醉后注意观察有无上呼吸道和下呼吸道梗阻、通气量不足、高血压、低血压、低氧血症、心律失常、心搏停止、高热、抽搐和惊厥、苏醒延迟或不醒、意外损伤等并发症，一旦发生，需立即通知医师，并协助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麻醉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nesthesi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指用药物或其他方法，使患者的整个机体或机体的一部分暂时失去感觉，以达到手术时无痛的目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5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400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因咳嗽，痰中带血丝于当地医院就诊。患者自述咳嗽、咳痰，晨起痰多，黄绿色，有慢性支气管炎病史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，否认结核病史，吸烟史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日。胸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示右肺上叶后段周围型结节，直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局部侵犯壁层胸膜，明确诊断为右肺癌，拟在全身麻醉下行右肺上叶肺癌根治术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麻醉前护理评估的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目前临床常用美国麻醉医师协会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merican Society of Anesthesiologists, AS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的病情分级方法判断患者对手术和麻醉的耐受力（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-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-1   ASA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情分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*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如系急症，在每级数字前标“急”或“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250920" y="1700280"/>
          <a:ext cx="8713800" cy="4389480"/>
        </p:xfrm>
        <a:graphic>
          <a:graphicData uri="http://schemas.openxmlformats.org/drawingml/2006/table">
            <a:tbl>
              <a:tblPr/>
              <a:tblGrid>
                <a:gridCol w="1482480"/>
                <a:gridCol w="4281480"/>
                <a:gridCol w="2949840"/>
              </a:tblGrid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病情分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健康状况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对麻醉及手术的耐受力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3657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1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2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4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 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5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正常健康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有轻度系统性疾病（包括＞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70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岁者或新生儿）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有严重系统性疾病，日常活动受限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有严重系统性疾病，且经常面临威胁生命的危险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不论手术与否，生命均难以维持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24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小时的濒死患者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耐受性良好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耐受性良好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耐受力减弱，须充分术前准备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即使充分术前准备风险性也很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非常危险，不宜行择期手术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包括血、尿、便常规、出凝血时间、血清电解质、肝肾功能、血糖、胸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、心电图检查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麻醉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既往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及手术史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药史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包括精神、情绪状态、人格类型，了解患者对疾病、手术方式、麻醉方式的认识程度。对术前准备、护理配合和术后康复知识的了解程度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微软用户</cp:lastModifiedBy>
  <dcterms:modified xsi:type="dcterms:W3CDTF">2015-08-11T03:32:45Z</dcterms:modified>
  <cp:revision>96</cp:revision>
  <dc:subject/>
  <dc:title>内科护理学</dc:title>
</cp:coreProperties>
</file>